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91E-EAF8-4D37-8F9C-7E89F84D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78C-C842-4288-B00D-3B4C652F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2B5-F2B0-441C-94ED-A63EDC5B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D88-97DD-42D4-B998-BA1AE0F6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C76-5D77-4C5C-8137-5F787AAC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44F-CEE5-4BED-A013-B5F6F2CF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CB3-B3C0-4A11-93D0-F9C130B3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C05-AC35-471C-96E7-12A0D970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194-30A2-4820-AC6D-56A69F20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82F-1EB5-4C87-9B60-6B3F9CA6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EED-19A5-4C40-879B-89FE0E00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A74-4B22-447F-BECD-4ADED5B3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BF58-B98D-4E90-B729-BD18CA1CC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Berlin Sans FB"/>
              </a:rPr>
              <a:t>Beginning Statistics</a:t>
            </a:r>
            <a:br>
              <a:rPr sz="6000"/>
            </a:br>
            <a:br>
              <a:rPr sz="1500"/>
            </a:b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Measures of Central Tendenc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Box &amp; Whisker Pl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Unit Project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Kajsa Aver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228600" y="1676520"/>
            <a:ext cx="7848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lin Sans FB"/>
              </a:rPr>
              <a:t>Students will learn how to find mean, median and mode.  They will be able to create a box &amp; whisker plot &amp; stem and leaf plots both on paper and on the graphing calculator.  They will research and gather data about a topic they find relevant to their lives. Students will organize their data and present it in a presentation using some type of technology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rlin Sans FB"/>
              </a:rPr>
              <a:t>Unit Summary</a:t>
            </a: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315200" y="1295280"/>
          <a:ext cx="1523880" cy="119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1295280"/>
                    <a:ext cx="152388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erlin Sans FB"/>
              </a:rPr>
              <a:t>My Personal Goa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"/>
              </a:rPr>
              <a:t>Create new ways to engage my stu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"/>
              </a:rPr>
              <a:t>Maintain a controlled classroom environment dur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"/>
              </a:rPr>
              <a:t>Use differentiated instruction to its fullest pot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rlin Sans FB"/>
              </a:rPr>
              <a:t>Student Go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To know how to find mean, median &amp; m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To create a presentation while integrating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To be able to effectively research a topic that is relevant to them and integrate it into a mathematic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rlin Sans FB"/>
              </a:rPr>
              <a:t>Student Nee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What is their previous knowledge of mean, median, &amp; m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What skills do they have on the computer with either research or specific computer progra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What skills will need to be pre-taught so they can effectively produce a valid projec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162920" y="1905120"/>
          <a:ext cx="1981080" cy="154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1905120"/>
                    <a:ext cx="1981080" cy="15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erlin Sans FB"/>
              </a:rPr>
              <a:t>Curriculum Framing Ques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rlin Sans FB"/>
              </a:rPr>
              <a:t>Essential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Why do we organ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rlin Sans FB"/>
              </a:rPr>
              <a:t>Unit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How is organization used in ma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Where can we find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How do statistics play a role in our l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rlin Sans FB"/>
              </a:rPr>
              <a:t>Content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rlin Sans FB"/>
              </a:rPr>
              <a:t>How do we find the measure of central tendenc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rlin Sans FB"/>
              </a:rPr>
              <a:t>How do we find the parts of a box &amp; whisker plo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rlin Sans FB"/>
              </a:rPr>
              <a:t>What are the different purposes of mean, median &amp; mo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rlin Sans FB"/>
              </a:rPr>
              <a:t>How do we read stem &amp; leaf plots/box &amp; whisker plo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rlin Sans FB"/>
              </a:rPr>
              <a:t>How is the calculator used to increase my ability to create and work effectively with box and whisker plo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rlin Sans FB"/>
              </a:rPr>
              <a:t>Standards &amp; Obj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rlin Sans FB"/>
              </a:rPr>
              <a:t>VA SOL A.17</a:t>
            </a:r>
            <a:r>
              <a:rPr b="0" lang="en-US" sz="4800" spc="-1" strike="noStrike">
                <a:solidFill>
                  <a:srgbClr val="ffffff"/>
                </a:solidFill>
                <a:latin typeface="Berlin Sans FB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The student will compare and contrast multiple one-variable data sets, using statistical techniques that include measures of central tendency, range, and box-and-whisker graph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rlin Sans FB"/>
              </a:rPr>
              <a:t>21</a:t>
            </a:r>
            <a:r>
              <a:rPr b="0" lang="en-US" sz="8000" spc="-1" strike="noStrike" baseline="30000">
                <a:solidFill>
                  <a:srgbClr val="ffffff"/>
                </a:solidFill>
                <a:latin typeface="Berlin Sans FB"/>
              </a:rPr>
              <a:t>st</a:t>
            </a:r>
            <a:r>
              <a:rPr b="0" lang="en-US" sz="8000" spc="-1" strike="noStrike">
                <a:solidFill>
                  <a:srgbClr val="ffffff"/>
                </a:solidFill>
                <a:latin typeface="Berlin Sans FB"/>
              </a:rPr>
              <a:t> Century Skil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Demonstrating originality and inventiveness in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Understanding the interconnections among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Accessing information efficiently and effectively, evaluating information critically and competently and using information accurately and creatively for the issue or problem at h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erlin Sans FB"/>
              </a:rPr>
              <a:t>Feedback &amp; Ide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What else could I do to be more creative in the design and implementation the pl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How do I direct students to specific topics that will be relevant to them yet will also lend themselves easily having statistical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What is an appropriate timeline for students to be working on such a project in a block scheduling (1 1/2hr) set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6:12:54Z</dcterms:created>
  <dc:creator>Valued Gateway Client</dc:creator>
  <dc:description/>
  <dc:language>en-US</dc:language>
  <cp:lastModifiedBy>Valued Gateway Client</cp:lastModifiedBy>
  <dcterms:modified xsi:type="dcterms:W3CDTF">2009-04-18T13:39:40Z</dcterms:modified>
  <cp:revision>31</cp:revision>
  <dc:subject/>
  <dc:title>Statistics</dc:title>
</cp:coreProperties>
</file>